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65C-0957-466D-B608-DD9A6025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CDC-0277-4848-8421-7F56CEB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EFC-8B55-43D8-8BD4-C111161E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D1A-B01A-4244-AC48-75F4A1BE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410-9F15-4252-9DAA-5011D498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A8D-1C60-4A4F-A767-9629EAF5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DAE-612A-45CC-AD0B-5B4FC41A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BE6-8A7D-4478-A81A-AEAE895B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7A8-11F9-43F3-8A3D-B3BDBFFF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BAB-36D6-417E-9686-81F42AE3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288-AB24-4840-B045-4B15DF03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9CD-3605-423D-A303-AA83EF4C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5A8-DC45-480D-8CA9-4DFFFD17D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006920" y="14760"/>
            <a:ext cx="72064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Monotype Corsiva"/>
              </a:rPr>
              <a:t>4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, съботно уч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ожие свет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показваш ми към Бога дру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радваш сърце и у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118160" y="-12240"/>
            <a:ext cx="83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теб уча аз, че зарад нас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ърпял Спасителят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 кръста смърт, от грешни срам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а дал спасение н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824040" y="-12240"/>
            <a:ext cx="655092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лагодарим Ти, Отче наш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най-верен Си наш Страж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Ти и до днес с любов сега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държиш ни при Хри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16800" y="4524840"/>
            <a:ext cx="7014240" cy="2288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О, съботно училище,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Божие светилище!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В душата ми ти радост влей</a:t>
            </a:r>
            <a:br>
              <a:rPr sz="3600"/>
            </a:br>
            <a:r>
              <a:rPr b="1" lang="bg-BG" sz="3600" spc="-1" strike="noStrike">
                <a:solidFill>
                  <a:srgbClr val="ffff00"/>
                </a:solidFill>
                <a:latin typeface="Monotype Corsiva"/>
              </a:rPr>
              <a:t>и в пътя ми все гре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27:03Z</dcterms:created>
  <dc:creator>TrifonTrifonow</dc:creator>
  <dc:description/>
  <dc:language>en-US</dc:language>
  <cp:lastModifiedBy>TrifonTrifonow</cp:lastModifiedBy>
  <dcterms:modified xsi:type="dcterms:W3CDTF">2005-11-23T17:43:39Z</dcterms:modified>
  <cp:revision>5</cp:revision>
  <dc:subject/>
  <dc:title>Slide 1</dc:title>
</cp:coreProperties>
</file>